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2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28" name="PlaceHolder 2"/>
          <p:cNvSpPr>
            <a:spLocks noGrp="1"/>
          </p:cNvSpPr>
          <p:nvPr>
            <p:ph type="dt" idx="34"/>
          </p:nvPr>
        </p:nvSpPr>
        <p:spPr>
          <a:xfrm>
            <a:off x="3849840" y="0"/>
            <a:ext cx="2946240" cy="4968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3"/>
          <p:cNvSpPr>
            <a:spLocks noGrp="1"/>
          </p:cNvSpPr>
          <p:nvPr>
            <p:ph type="sldImg"/>
          </p:nvPr>
        </p:nvSpPr>
        <p:spPr>
          <a:xfrm>
            <a:off x="917280" y="746280"/>
            <a:ext cx="4962600" cy="37209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move the slide</a:t>
            </a:r>
            <a:endParaRPr b="0" lang="en-US" sz="4000" spc="-1" strike="noStrike">
              <a:solidFill>
                <a:srgbClr val="1f497d"/>
              </a:solidFill>
              <a:latin typeface="Calibri"/>
            </a:endParaRPr>
          </a:p>
        </p:txBody>
      </p:sp>
      <p:sp>
        <p:nvSpPr>
          <p:cNvPr id="530"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1" name="PlaceHolder 5"/>
          <p:cNvSpPr>
            <a:spLocks noGrp="1"/>
          </p:cNvSpPr>
          <p:nvPr>
            <p:ph type="ftr" idx="35"/>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32" name="PlaceHolder 6"/>
          <p:cNvSpPr>
            <a:spLocks noGrp="1"/>
          </p:cNvSpPr>
          <p:nvPr>
            <p:ph type="sldNum" idx="36"/>
          </p:nvPr>
        </p:nvSpPr>
        <p:spPr>
          <a:xfrm>
            <a:off x="3849840" y="9429840"/>
            <a:ext cx="294624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D6D3-F285-477C-9A73-A3EA0CCED12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6280"/>
            <a:ext cx="4962600" cy="3720960"/>
          </a:xfrm>
          <a:prstGeom prst="rect">
            <a:avLst/>
          </a:prstGeom>
          <a:ln w="0">
            <a:noFill/>
          </a:ln>
        </p:spPr>
      </p:sp>
      <p:sp>
        <p:nvSpPr>
          <p:cNvPr id="6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39"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995E-ECD0-4E15-8CF9-9C5D85ED3AEB}"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6280"/>
            <a:ext cx="4962600" cy="3720960"/>
          </a:xfrm>
          <a:prstGeom prst="rect">
            <a:avLst/>
          </a:prstGeom>
          <a:ln w="0">
            <a:noFill/>
          </a:ln>
        </p:spPr>
      </p:sp>
      <p:sp>
        <p:nvSpPr>
          <p:cNvPr id="6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5"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7A8C-B1C0-4BC6-A8C3-C43D2B186B09}"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02F2-2228-4B4B-AFCF-0FB9570A24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47" name="Rectangle 7"/>
          <p:cNvSpPr/>
          <p:nvPr/>
        </p:nvSpPr>
        <p:spPr>
          <a:xfrm>
            <a:off x="384984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8FAF-8F50-4CB7-9D02-35212D6A196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8" name="PlaceHolder 1"/>
          <p:cNvSpPr>
            <a:spLocks noGrp="1"/>
          </p:cNvSpPr>
          <p:nvPr>
            <p:ph type="sldImg"/>
          </p:nvPr>
        </p:nvSpPr>
        <p:spPr>
          <a:xfrm>
            <a:off x="922320" y="746280"/>
            <a:ext cx="4962600" cy="3720960"/>
          </a:xfrm>
          <a:prstGeom prst="rect">
            <a:avLst/>
          </a:prstGeom>
          <a:ln w="0">
            <a:noFill/>
          </a:ln>
        </p:spPr>
      </p:sp>
      <p:sp>
        <p:nvSpPr>
          <p:cNvPr id="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6280"/>
            <a:ext cx="4962600" cy="3720960"/>
          </a:xfrm>
          <a:prstGeom prst="rect">
            <a:avLst/>
          </a:prstGeom>
          <a:ln w="0">
            <a:noFill/>
          </a:ln>
        </p:spPr>
      </p:sp>
      <p:sp>
        <p:nvSpPr>
          <p:cNvPr id="6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DB7E-7780-495E-B47E-094D66A438A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23ABD-09F1-448D-83F7-18258ACDB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EC44B-084B-422C-8D47-934DCCA10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F58D3-CBB3-4FEF-B5AA-BF0345D78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26501-4B88-4605-BE41-668564D136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CD62F-88F9-475D-A439-D92B2679F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5FC90-3CA1-4A3D-90C0-DBC4E6EA9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64904-3E0C-416C-AE85-FE03B1F5E6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430191-D2C7-4FC7-9F75-88EE7A423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CBD7DC-B53C-470D-974A-452232265D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8D70EE-9CB9-488A-A0BC-4BA7B66055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D58B2-CDAD-4C3A-A354-5F0AAB3B49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4E008-DCD4-4B74-BDE2-4DCA91E8F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53BBE-6ABE-47CA-8712-DED7846E5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AA5CC7-B724-4C22-98D4-06E278C6F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1FDD0B-E2D0-4825-B801-C0E3F18A5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69CC5-B9C1-4E8C-964C-331A357DF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13F42-6811-4A3C-8B11-36336FDE3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58D33-6679-45E0-9C2D-7AB0124BD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F540B-6AED-469E-AADD-5ADA6B6E3C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A999F3-2E33-417A-BEBA-77D3791680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3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D90E79-F90A-4111-ABD1-522480D2EE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A1DCBE-C23F-42EC-B21E-3AD32CAC91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7988C1-A88F-4F69-8354-8905413819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FFA3B0-D94F-4F01-A53E-035C9EFA11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4F6659-544E-49BB-A6E4-3D3C3E712D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E91B18-04D6-443E-BB2A-8A282C4FA7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2777E2-8C68-4CE2-ABC4-571C0397FC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67D3D1-C813-4600-A9B4-0B9E054339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1CD148-46BB-405F-960E-E8AF63FDCD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C7C671-03AA-400E-8BDC-4A4E688156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5FACE-A971-49D7-AD4E-B8C989E29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6438E4-31E0-4770-AA24-B99306DD0E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A56248-EC7B-4745-9690-C92EF517F2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2A7F08-6118-40BA-82C4-6212AEBE1F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16D37E-53E7-432D-B98D-AF9FF79FDE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4129B0-73F6-4484-8FA5-703A1F5C91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73167A-6C7F-42BB-A258-3A1A425974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AE01CF-28A4-4DA4-B6AC-14A45BA8AA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BCAABD-5737-4547-90A7-50C666DE18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8CD801-17A0-43CA-B9FA-C846E1F02F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DD701-5FD4-4804-8A09-3214D1FFFB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21B6-26F5-454B-8830-C4C8AD7A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DF10B-213B-493D-AB42-DE29E5751F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D44823-7EC9-41BB-A804-DACC3C6406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22B620-2E24-4FD1-90A0-DB15F68C88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7481B3-CC9E-4BE3-AAA0-AFA9B7C161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2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E2DD1F-E962-471B-A450-1D8308BCD0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E18D0-3F69-4C15-A1CD-A8107D85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1220-9331-4655-AAB1-7FD645B6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08D32-0F80-4509-9106-2536B038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54AD-E755-493B-8CD6-FBF2DF75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9FC5-0B33-4C4C-A29B-3081B05B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07DE-1CA1-437A-A6FB-1814CBB34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B074-57B3-4F0B-9D89-E4B721B4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F8BC6-A5FA-4518-AD64-F5D1421D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3AED7-E404-44DA-8355-4CA1A4B8B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E7EF9-1472-4C20-A5DE-91540880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F3D5D-C104-4D19-A836-1F8676A1D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72CFA-702B-4E87-9144-A2D4503DE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8E5DA-5E77-469C-8BB6-16874E57D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C52CD-52E4-43F7-9AA8-A6F36F9EB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2DB09-539D-4CCC-B212-88B5DDAF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57D7F-7E5A-4AC4-B3E9-14A70A15B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431D-A8BA-4ED0-81D7-AA1F3A546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675EE-D985-4252-B24E-D16C76ED1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28D95-298F-4003-B85B-0096B079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163E9-45C1-4B62-8E6C-55221CA9E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76245-9D66-4E78-8EF0-49071D6BC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BD3DE-B99E-4E69-BE0B-C49E542AB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C0602-B15B-43C4-85AB-EA0FBCE45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3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B3090-1C18-4881-8B39-4E3B7E557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145CE-509A-4B1F-8977-1342C7EC7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57A1D-7398-4E5B-8092-2FC6DD55E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8F8A8-9F6E-4084-82B3-27B7A7961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42BBC-2C38-4781-86DF-E04DD233F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57264-0C9E-4016-BA68-57483DC4F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F83C7-4D90-4B7B-AE10-A095768EE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DBCC5-E123-4300-915A-F55369803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12A34-CE4F-4C4D-AD18-5ED5046C7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9EE6A9-DA11-46CA-AB8F-EF63024446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8907F-F25B-45D6-9952-1655BDE605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0E99C3-2184-4B10-91B2-545123ACB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938AD-ABE3-48FC-9864-63A2FFAA8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0BA2D-4B06-4A18-A92A-F456AC3F9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DCC30-AAA7-471F-80FA-B96F0F57D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09C4B-B5C6-4785-9E05-BB1057018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1A7E6-DBAB-4284-86D6-FAFD111AF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06652-C359-4101-8D6E-9EFECEB9D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5C655-276D-4546-B450-8F12423DE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C6672-AE3F-4502-8674-8ED263315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65AF9-0961-4643-8A30-39A4CA502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DEF89E-C357-4667-9D06-67BEB29BB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50DE05-DB96-4C38-A048-B52FD6045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4367F1-32B7-4ED6-BD30-9D9D29639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43508E-69A6-4658-AE4C-93B68004F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64426-465C-4E5E-A189-DEB85392E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E6E7B-5A0E-4F97-BDA4-0F2773094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55352-27A4-48BD-B090-97DAB5883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02D6C9-7BDE-4E09-A5FD-8299E935B4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87BFE-BE1E-44E4-927A-BB4B5D7CF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E55E2-F525-4F60-99CD-53927DA5D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0B001-F13E-45F0-A4AA-E9149AB21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4CECC-F8FA-4C1B-B78F-8DE661DF5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2C2163-B392-4EA3-AD2F-F771519253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DDBA9-E24E-44A5-B984-1782EDD39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138E5F-E061-422A-B87B-9A0E81F051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A9310-5F90-4AFF-8AA5-A2DF3D17E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6C03DF-7B87-4ED5-9D98-D0153D320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3644D5-EA68-4DCF-8F79-33595263A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59689-0B8A-4855-8049-FA0D9B29D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5CFBF1-B14F-4E7C-9A89-125022299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47C0F-D830-410F-85E8-72C10D869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71ADA-C61C-4049-9ACF-C6A30C34D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6B4ED-B061-4925-8BFF-D1EA4E9FD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9B678-EA9D-43AD-BC6D-5A66B8155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95C21-5791-4E7A-8B37-1BFC908346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E7EBD8-8C98-45BC-89DB-F0EAF516FB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A431A4-1150-469B-95C3-669D2CE05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E4EEE-1EB6-4D02-AC7B-95838BA60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EB793-4D85-41BE-A968-B630F0FAE2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1A359-DD74-46CF-BDB7-57C06F902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E4FC6-5066-456E-BA50-A2ED34FF78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1CBCE-CF94-435D-91B8-6C44F20D6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FE1B6-4E76-432F-8ED3-FE98B9D29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CE69E-0321-43BA-8C52-3E35D0CEE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3BE43-A803-4D48-ACC3-45C64BE60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B8FA8-6D5A-4EE8-BA65-981BDB35F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9EB48-CCF4-4C5E-82B8-DA2E6EEDD2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4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44A27B-5B8F-473F-B1BB-642512778F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2C13F-8D86-41B6-B3F9-086B0050B8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2285BF-860D-4A5B-B15F-F1755CA9B8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4D02B-3158-4A3E-9A19-F59BE707B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 name="İçerik Yer Tutucusu 5" descr=""/>
          <p:cNvPicPr/>
          <p:nvPr/>
        </p:nvPicPr>
        <p:blipFill>
          <a:blip r:embed="rId2"/>
          <a:stretch/>
        </p:blipFill>
        <p:spPr>
          <a:xfrm>
            <a:off x="8317080" y="0"/>
            <a:ext cx="826920" cy="82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9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9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96" name="İçerik Yer Tutucusu 5" descr=""/>
          <p:cNvPicPr/>
          <p:nvPr/>
        </p:nvPicPr>
        <p:blipFill>
          <a:blip r:embed="rId2"/>
          <a:stretch/>
        </p:blipFill>
        <p:spPr>
          <a:xfrm>
            <a:off x="8317080" y="0"/>
            <a:ext cx="826920" cy="826920"/>
          </a:xfrm>
          <a:prstGeom prst="rect">
            <a:avLst/>
          </a:prstGeom>
          <a:ln w="0">
            <a:noFill/>
          </a:ln>
        </p:spPr>
      </p:pic>
      <p:sp>
        <p:nvSpPr>
          <p:cNvPr id="3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9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EFA5-EDD0-4EA7-B769-63E9321F184E}"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3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40" name="İçerik Yer Tutucusu 5" descr=""/>
          <p:cNvPicPr/>
          <p:nvPr/>
        </p:nvPicPr>
        <p:blipFill>
          <a:blip r:embed="rId2"/>
          <a:stretch/>
        </p:blipFill>
        <p:spPr>
          <a:xfrm>
            <a:off x="8317080" y="0"/>
            <a:ext cx="826920" cy="826920"/>
          </a:xfrm>
          <a:prstGeom prst="rect">
            <a:avLst/>
          </a:prstGeom>
          <a:ln w="0">
            <a:noFill/>
          </a:ln>
        </p:spPr>
      </p:pic>
      <p:sp>
        <p:nvSpPr>
          <p:cNvPr id="44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4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1446-D843-43D7-9600-214821219984}"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8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8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84" name="İçerik Yer Tutucusu 5" descr=""/>
          <p:cNvPicPr/>
          <p:nvPr/>
        </p:nvPicPr>
        <p:blipFill>
          <a:blip r:embed="rId2"/>
          <a:stretch/>
        </p:blipFill>
        <p:spPr>
          <a:xfrm>
            <a:off x="8317080" y="0"/>
            <a:ext cx="826920" cy="826920"/>
          </a:xfrm>
          <a:prstGeom prst="rect">
            <a:avLst/>
          </a:prstGeom>
          <a:ln w="0">
            <a:noFill/>
          </a:ln>
        </p:spPr>
      </p:pic>
      <p:sp>
        <p:nvSpPr>
          <p:cNvPr id="48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8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2369-6635-4C16-A403-73995F5DBB61}"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1"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3" name="İçerik Yer Tutucusu 5" descr=""/>
          <p:cNvPicPr/>
          <p:nvPr/>
        </p:nvPicPr>
        <p:blipFill>
          <a:blip r:embed="rId2"/>
          <a:stretch/>
        </p:blipFill>
        <p:spPr>
          <a:xfrm>
            <a:off x="8317080" y="0"/>
            <a:ext cx="826920" cy="826920"/>
          </a:xfrm>
          <a:prstGeom prst="rect">
            <a:avLst/>
          </a:prstGeom>
          <a:ln w="0">
            <a:noFill/>
          </a:ln>
        </p:spPr>
      </p:pic>
      <p:sp>
        <p:nvSpPr>
          <p:cNvPr id="44" name="6 Düz Bağlayıcı"/>
          <p:cNvSpPr/>
          <p:nvPr/>
        </p:nvSpPr>
        <p:spPr>
          <a:xfrm>
            <a:off x="0" y="404640"/>
            <a:ext cx="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4CD5-52F9-40A6-98BE-BEB35256142C}"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8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88" name="İçerik Yer Tutucusu 5" descr=""/>
          <p:cNvPicPr/>
          <p:nvPr/>
        </p:nvPicPr>
        <p:blipFill>
          <a:blip r:embed="rId2"/>
          <a:stretch/>
        </p:blipFill>
        <p:spPr>
          <a:xfrm>
            <a:off x="8317080" y="0"/>
            <a:ext cx="826920" cy="826920"/>
          </a:xfrm>
          <a:prstGeom prst="rect">
            <a:avLst/>
          </a:prstGeom>
          <a:ln w="0">
            <a:noFill/>
          </a:ln>
        </p:spPr>
      </p:pic>
      <p:sp>
        <p:nvSpPr>
          <p:cNvPr id="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9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FD79-CECF-4684-9C50-ECB59B83763E}"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3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32" name="İçerik Yer Tutucusu 5" descr=""/>
          <p:cNvPicPr/>
          <p:nvPr/>
        </p:nvPicPr>
        <p:blipFill>
          <a:blip r:embed="rId2"/>
          <a:stretch/>
        </p:blipFill>
        <p:spPr>
          <a:xfrm>
            <a:off x="8317080" y="0"/>
            <a:ext cx="826920" cy="826920"/>
          </a:xfrm>
          <a:prstGeom prst="rect">
            <a:avLst/>
          </a:prstGeom>
          <a:ln w="0">
            <a:noFill/>
          </a:ln>
        </p:spPr>
      </p:pic>
      <p:sp>
        <p:nvSpPr>
          <p:cNvPr id="1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3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5E43-87AD-4A53-9F28-06421D30F8A8}"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7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76" name="İçerik Yer Tutucusu 5" descr=""/>
          <p:cNvPicPr/>
          <p:nvPr/>
        </p:nvPicPr>
        <p:blipFill>
          <a:blip r:embed="rId2"/>
          <a:stretch/>
        </p:blipFill>
        <p:spPr>
          <a:xfrm>
            <a:off x="8317080" y="0"/>
            <a:ext cx="826920" cy="826920"/>
          </a:xfrm>
          <a:prstGeom prst="rect">
            <a:avLst/>
          </a:prstGeom>
          <a:ln w="0">
            <a:noFill/>
          </a:ln>
        </p:spPr>
      </p:pic>
      <p:sp>
        <p:nvSpPr>
          <p:cNvPr id="1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7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9DE1-145F-4E17-823F-8D370C31EDA2}"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1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1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20" name="İçerik Yer Tutucusu 5" descr=""/>
          <p:cNvPicPr/>
          <p:nvPr/>
        </p:nvPicPr>
        <p:blipFill>
          <a:blip r:embed="rId2"/>
          <a:stretch/>
        </p:blipFill>
        <p:spPr>
          <a:xfrm>
            <a:off x="8317080" y="0"/>
            <a:ext cx="826920" cy="826920"/>
          </a:xfrm>
          <a:prstGeom prst="rect">
            <a:avLst/>
          </a:prstGeom>
          <a:ln w="0">
            <a:noFill/>
          </a:ln>
        </p:spPr>
      </p:pic>
      <p:sp>
        <p:nvSpPr>
          <p:cNvPr id="2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2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8C85-8658-41DD-9162-0E5FD4A11C02}"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6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6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64" name="İçerik Yer Tutucusu 5" descr=""/>
          <p:cNvPicPr/>
          <p:nvPr/>
        </p:nvPicPr>
        <p:blipFill>
          <a:blip r:embed="rId2"/>
          <a:stretch/>
        </p:blipFill>
        <p:spPr>
          <a:xfrm>
            <a:off x="8317080" y="0"/>
            <a:ext cx="826920" cy="826920"/>
          </a:xfrm>
          <a:prstGeom prst="rect">
            <a:avLst/>
          </a:prstGeom>
          <a:ln w="0">
            <a:noFill/>
          </a:ln>
        </p:spPr>
      </p:pic>
      <p:sp>
        <p:nvSpPr>
          <p:cNvPr id="2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6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5E87-441B-425B-ABB0-A248F7D1BD5A}"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0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0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08" name="İçerik Yer Tutucusu 5" descr=""/>
          <p:cNvPicPr/>
          <p:nvPr/>
        </p:nvPicPr>
        <p:blipFill>
          <a:blip r:embed="rId2"/>
          <a:stretch/>
        </p:blipFill>
        <p:spPr>
          <a:xfrm>
            <a:off x="8317080" y="0"/>
            <a:ext cx="826920" cy="826920"/>
          </a:xfrm>
          <a:prstGeom prst="rect">
            <a:avLst/>
          </a:prstGeom>
          <a:ln w="0">
            <a:noFill/>
          </a:ln>
        </p:spPr>
      </p:pic>
      <p:sp>
        <p:nvSpPr>
          <p:cNvPr id="3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1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35FF-593E-40C9-9F12-83FAE6CE3C4C}"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5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52" name="İçerik Yer Tutucusu 5" descr=""/>
          <p:cNvPicPr/>
          <p:nvPr/>
        </p:nvPicPr>
        <p:blipFill>
          <a:blip r:embed="rId2"/>
          <a:stretch/>
        </p:blipFill>
        <p:spPr>
          <a:xfrm>
            <a:off x="8317080" y="0"/>
            <a:ext cx="826920" cy="826920"/>
          </a:xfrm>
          <a:prstGeom prst="rect">
            <a:avLst/>
          </a:prstGeom>
          <a:ln w="0">
            <a:noFill/>
          </a:ln>
        </p:spPr>
      </p:pic>
      <p:sp>
        <p:nvSpPr>
          <p:cNvPr id="3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5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CC52-5C36-46D0-9A7F-5ABCD2B8F7A3}"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İCARET SİCİLİ MÜDÜRLÜKLERİ I.BİLGİLENDİRME TOPLANTISI</a:t>
            </a:r>
            <a:endParaRPr b="0" lang="en-US" sz="3600" spc="-1" strike="noStrike">
              <a:solidFill>
                <a:srgbClr val="1f497d"/>
              </a:solidFill>
              <a:latin typeface="Calibri"/>
            </a:endParaRPr>
          </a:p>
        </p:txBody>
      </p:sp>
      <p:sp>
        <p:nvSpPr>
          <p:cNvPr id="534" name="PlaceHolder 2"/>
          <p:cNvSpPr>
            <a:spLocks noGrp="1"/>
          </p:cNvSpPr>
          <p:nvPr>
            <p:ph type="subTitle"/>
          </p:nvPr>
        </p:nvSpPr>
        <p:spPr>
          <a:xfrm>
            <a:off x="1403280" y="5727600"/>
            <a:ext cx="6400800" cy="1130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0-31 Mart 2013</a:t>
            </a:r>
            <a:endParaRPr b="0" lang="en-US" sz="2400" spc="-1" strike="noStrike">
              <a:solidFill>
                <a:srgbClr val="000000"/>
              </a:solidFill>
              <a:latin typeface="Calibri"/>
            </a:endParaRPr>
          </a:p>
        </p:txBody>
      </p:sp>
      <p:pic>
        <p:nvPicPr>
          <p:cNvPr id="535" name="4 Resim" descr="tobb_logo.png"/>
          <p:cNvPicPr/>
          <p:nvPr/>
        </p:nvPicPr>
        <p:blipFill>
          <a:blip r:embed="rId1"/>
          <a:stretch/>
        </p:blipFill>
        <p:spPr>
          <a:xfrm>
            <a:off x="0" y="0"/>
            <a:ext cx="9144000" cy="1413000"/>
          </a:xfrm>
          <a:prstGeom prst="rect">
            <a:avLst/>
          </a:prstGeom>
          <a:ln w="0">
            <a:noFill/>
          </a:ln>
        </p:spPr>
      </p:pic>
      <p:sp>
        <p:nvSpPr>
          <p:cNvPr id="536"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549360"/>
            <a:ext cx="864072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55" name=""/>
          <p:cNvSpPr txBox="1"/>
          <p:nvPr/>
        </p:nvSpPr>
        <p:spPr>
          <a:xfrm>
            <a:off x="394920" y="1557000"/>
            <a:ext cx="8497800" cy="5040360"/>
          </a:xfrm>
          <a:prstGeom prst="rect">
            <a:avLst/>
          </a:prstGeom>
          <a:noFill/>
          <a:ln w="0">
            <a:noFill/>
          </a:ln>
        </p:spPr>
        <p:txBody>
          <a:bodyPr anchor="t">
            <a:normAutofit/>
          </a:bodyPr>
          <a:p>
            <a:pPr marL="800280" indent="-457200" algn="just">
              <a:lnSpc>
                <a:spcPct val="8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t>
            </a:r>
            <a:endParaRPr b="0" lang="en-US" sz="3000" spc="-1" strike="noStrike">
              <a:solidFill>
                <a:srgbClr val="000000"/>
              </a:solidFill>
              <a:latin typeface="Calibri"/>
            </a:endParaRPr>
          </a:p>
          <a:p>
            <a:pPr marL="80028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harçlarından Kanunun 1532 nci maddesi uyarınca odaya aktarılan tutar, mizanda ayrı bir hesapta gösterilir ve öncelikle müdürlüğün ihtiyaçları için kullanılır. Aktarılan tutarın sicil hizmetleri için yeterli olmaması halinde gerekli kaynak odaca sağlanır. Odalar, sicil hizmetlerinden elde ettikleri gelir ve harç payı tutarları ile müdürlüğün personel ve diğer giderlerini her yılın Mart ayı sonuna kadar yıllık olarak TOBB’ a bildirmekle yükümlüdür. TOBB, bu bildirimleri Nisan ayı sonuna kadar yazılı olarak Bakanlığa bildirir…..</a:t>
            </a:r>
            <a:endParaRPr b="0" lang="en-US" sz="3000" spc="-1" strike="noStrike">
              <a:solidFill>
                <a:srgbClr val="000000"/>
              </a:solidFill>
              <a:latin typeface="Calibri"/>
            </a:endParaRPr>
          </a:p>
          <a:p>
            <a:pPr lvl="1" marL="743040" indent="-285840">
              <a:lnSpc>
                <a:spcPct val="80000"/>
              </a:lnSpc>
              <a:spcBef>
                <a:spcPts val="75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7" name=""/>
          <p:cNvSpPr txBox="1"/>
          <p:nvPr/>
        </p:nvSpPr>
        <p:spPr>
          <a:xfrm>
            <a:off x="468000" y="1773360"/>
            <a:ext cx="8496360" cy="4464000"/>
          </a:xfrm>
          <a:prstGeom prst="rect">
            <a:avLst/>
          </a:prstGeom>
          <a:noFill/>
          <a:ln w="0">
            <a:noFill/>
          </a:ln>
        </p:spPr>
        <p:txBody>
          <a:bodyPr anchor="t">
            <a:normAutofit/>
          </a:bodyPr>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Yönetmelik hükmü doğrultusunda 2013 yılından itibaren ticaret sicili ile ilgili harç gelirlerinin ve ticaret sicil müdürlüğünün giderlerinin gelir ve gider hesapları içinde ayrı olarak gösterilmesi, bu bilgilere ulaşılmasını kolaylaştıracak bir hesap planı yapılarak işlemlerin takip edilmesi önem arz etmektedir.</a:t>
            </a:r>
            <a:endParaRPr b="0" lang="en-US" sz="3000" spc="-1" strike="noStrike">
              <a:solidFill>
                <a:srgbClr val="000000"/>
              </a:solidFill>
              <a:latin typeface="Calibri"/>
            </a:endParaRPr>
          </a:p>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doğrultuda odaların genel sekreterliklerine 20.03.2013 tarihli ve 7105 sayılı bilgilendirme yazısı gönderilmişti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9" name=""/>
          <p:cNvSpPr txBox="1"/>
          <p:nvPr/>
        </p:nvSpPr>
        <p:spPr>
          <a:xfrm>
            <a:off x="468000" y="1773360"/>
            <a:ext cx="8280360" cy="4813200"/>
          </a:xfrm>
          <a:prstGeom prst="rect">
            <a:avLst/>
          </a:prstGeom>
          <a:noFill/>
          <a:ln w="0">
            <a:noFill/>
          </a:ln>
        </p:spPr>
        <p:txBody>
          <a:bodyPr anchor="t">
            <a:normAutofit fontScale="98000"/>
          </a:bodyPr>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Gönderilen yazı sonrası gelirlerin zaten ayrı olarak gösterildiği, ancak giderlerin ayrıştırılmasının nasıl yapılacağı hususunda çok yoğun bir geri dönüş yaşanmıştır.</a:t>
            </a:r>
            <a:endParaRPr b="0" lang="en-US" sz="2800" spc="-1" strike="noStrike">
              <a:solidFill>
                <a:srgbClr val="000000"/>
              </a:solidFill>
              <a:latin typeface="Calibri"/>
            </a:endParaRPr>
          </a:p>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Ticaret sicil harç gelirleri bütçe ve hesap planında ayrı hesaplarda gösterilmekle birlikte bazı odalarımızda sair gelirler faslının altında takip edildiği görülmüş olup, bu gelirin odalarımız açısından süreklilik arz eden bir gelir olması nedeniyle, yapılan hizmetler karşılığı alınan ücretler faslının içinde takip edilmesinin daha doğru olacağı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79280" y="47592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61" name=""/>
          <p:cNvSpPr txBox="1"/>
          <p:nvPr/>
        </p:nvSpPr>
        <p:spPr>
          <a:xfrm>
            <a:off x="468000" y="1483920"/>
            <a:ext cx="8567640" cy="5373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ildiğiniz üzere odaların bütçe hazırlama takvimi Ekim 2012 ayında başlayıp Aralık 2012 ayında sona ermekte ve 01.01.2013 tarihinden itibaren de ilgili yıl bütçesi uygulanmaya başlanmaktadır.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yönetmeliğinin yayım tarihi 27.01.2013 olup bu tarihte tüm odalarımızın bütçeleri uygulanmaya başlanmıştı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26920" y="620640"/>
            <a:ext cx="8229600" cy="287280"/>
          </a:xfrm>
          <a:prstGeom prst="rect">
            <a:avLst/>
          </a:prstGeom>
          <a:noFill/>
          <a:ln w="0">
            <a:noFill/>
          </a:ln>
        </p:spPr>
        <p:txBody>
          <a:bodyPr anchor="ctr">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Odanızın bütçe performansı</a:t>
            </a:r>
            <a:endParaRPr b="0" lang="en-US" sz="1600" spc="-1" strike="noStrike">
              <a:solidFill>
                <a:srgbClr val="1f497d"/>
              </a:solidFill>
              <a:latin typeface="Calibri"/>
            </a:endParaRPr>
          </a:p>
        </p:txBody>
      </p:sp>
      <p:sp>
        <p:nvSpPr>
          <p:cNvPr id="563" name=""/>
          <p:cNvSpPr txBox="1"/>
          <p:nvPr/>
        </p:nvSpPr>
        <p:spPr>
          <a:xfrm>
            <a:off x="468360" y="3573360"/>
            <a:ext cx="8229600" cy="287280"/>
          </a:xfrm>
          <a:prstGeom prst="rect">
            <a:avLst/>
          </a:prstGeom>
          <a:noFill/>
          <a:ln w="0">
            <a:noFill/>
          </a:ln>
        </p:spPr>
        <p:txBody>
          <a:bodyPr anchor="t">
            <a:normAutofit/>
          </a:bodyPr>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e hesap planınız da</a:t>
            </a:r>
            <a:endParaRPr b="0" lang="en-US" sz="1600" spc="-1" strike="noStrike">
              <a:solidFill>
                <a:srgbClr val="000000"/>
              </a:solidFill>
              <a:latin typeface="Calibri"/>
            </a:endParaRPr>
          </a:p>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564" name=""/>
          <p:cNvGraphicFramePr/>
          <p:nvPr/>
        </p:nvGraphicFramePr>
        <p:xfrm>
          <a:off x="1403280" y="981000"/>
          <a:ext cx="6769080" cy="2519280"/>
        </p:xfrm>
        <a:graphic>
          <a:graphicData uri="http://schemas.openxmlformats.org/drawingml/2006/table">
            <a:tbl>
              <a:tblPr/>
              <a:tblGrid>
                <a:gridCol w="441360"/>
                <a:gridCol w="4309920"/>
                <a:gridCol w="1008360"/>
                <a:gridCol w="1009440"/>
              </a:tblGrid>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rüt Ücretler</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k Ödenek</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Özel Hizmet Tazminatı</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İşsizlik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lektri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u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rgo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ilgisayar Bakım Onarım ve Malz.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65" name=""/>
          <p:cNvGraphicFramePr/>
          <p:nvPr/>
        </p:nvGraphicFramePr>
        <p:xfrm>
          <a:off x="1403280" y="3860640"/>
          <a:ext cx="6840720" cy="2891160"/>
        </p:xfrm>
        <a:graphic>
          <a:graphicData uri="http://schemas.openxmlformats.org/drawingml/2006/table">
            <a:tbl>
              <a:tblPr/>
              <a:tblGrid>
                <a:gridCol w="5781600"/>
                <a:gridCol w="105912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3 - Özel Hizmet Tazminatı</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4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792.01.005 - İşveren İşsizlik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6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 - DIŞARI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4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5 - Bilgisayar Bakım Onarım ve Malz.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79280" y="54936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67" name=""/>
          <p:cNvSpPr txBox="1"/>
          <p:nvPr/>
        </p:nvSpPr>
        <p:spPr>
          <a:xfrm>
            <a:off x="250560" y="1773360"/>
            <a:ext cx="8677080" cy="4813200"/>
          </a:xfrm>
          <a:prstGeom prst="rect">
            <a:avLst/>
          </a:prstGeom>
          <a:noFill/>
          <a:ln w="0">
            <a:noFill/>
          </a:ln>
        </p:spPr>
        <p:txBody>
          <a:bodyPr anchor="t">
            <a:normAutofit/>
          </a:bodyPr>
          <a:p>
            <a:pPr marL="343080" indent="-3430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Şeklinde ise 2013 yılı için hesap planına yeni bir kalem ekleme imkanınız bulunmamaktadır. Çünkü hesap planı ile bütçeniz birebir örtüştüğü için sizin hesap planınızda yapacağınız her değişiklik örneğin ticaret sicil servisi kırtasiye gideri gibi bir hesap açılması durumunda bu yeni hesap bütçeye yeni bir fasıl maddesi olarak yansıyacaktır. Bütçe hazırlanırken olmayan bir ödeneğin sonradan ortaya çıkması da bütçe ve muhasebe yönetmeliği açısından olağanüstü ödenek demektir ve bildiğiniz üzere bunu yapabilmek için de yeni bir gelir kalemi bulma zorunluluğu vard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68360" y="620640"/>
            <a:ext cx="82296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danızın bütçe formatı;</a:t>
            </a:r>
            <a:endParaRPr b="0" lang="en-US" sz="2400" spc="-1" strike="noStrike">
              <a:solidFill>
                <a:srgbClr val="1f497d"/>
              </a:solidFill>
              <a:latin typeface="Calibri"/>
            </a:endParaRPr>
          </a:p>
        </p:txBody>
      </p:sp>
      <p:sp>
        <p:nvSpPr>
          <p:cNvPr id="569" name=""/>
          <p:cNvSpPr txBox="1"/>
          <p:nvPr/>
        </p:nvSpPr>
        <p:spPr>
          <a:xfrm>
            <a:off x="395280" y="2707920"/>
            <a:ext cx="8569440" cy="3603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e hesap planınız da;</a:t>
            </a:r>
            <a:endParaRPr b="0" lang="en-US" sz="2200" spc="-1" strike="noStrike">
              <a:solidFill>
                <a:srgbClr val="000000"/>
              </a:solidFill>
              <a:latin typeface="Calibri"/>
            </a:endParaRPr>
          </a:p>
        </p:txBody>
      </p:sp>
      <p:graphicFrame>
        <p:nvGraphicFramePr>
          <p:cNvPr id="570" name=""/>
          <p:cNvGraphicFramePr/>
          <p:nvPr/>
        </p:nvGraphicFramePr>
        <p:xfrm>
          <a:off x="1042920" y="1125360"/>
          <a:ext cx="6337440" cy="1538640"/>
        </p:xfrm>
        <a:graphic>
          <a:graphicData uri="http://schemas.openxmlformats.org/drawingml/2006/table">
            <a:tbl>
              <a:tblPr/>
              <a:tblGrid>
                <a:gridCol w="960480"/>
                <a:gridCol w="3451320"/>
                <a:gridCol w="807840"/>
                <a:gridCol w="1117800"/>
              </a:tblGrid>
              <a:tr h="1922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9360" marR="936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a:no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96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71" name=""/>
          <p:cNvGraphicFramePr/>
          <p:nvPr/>
        </p:nvGraphicFramePr>
        <p:xfrm>
          <a:off x="971640" y="3213000"/>
          <a:ext cx="6337080" cy="3463920"/>
        </p:xfrm>
        <a:graphic>
          <a:graphicData uri="http://schemas.openxmlformats.org/drawingml/2006/table">
            <a:tbl>
              <a:tblPr/>
              <a:tblGrid>
                <a:gridCol w="5354640"/>
                <a:gridCol w="98244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1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3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2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3 - 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1 - 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793.01.002 - 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1 - Bilgisayar Bakım Onarım ve Mlz. Gidre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3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1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3" name=""/>
          <p:cNvSpPr txBox="1"/>
          <p:nvPr/>
        </p:nvSpPr>
        <p:spPr>
          <a:xfrm>
            <a:off x="468000" y="1915920"/>
            <a:ext cx="8567640" cy="504180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Şeklinde ise hesap planı ile bütçe birebir örtüşmeyin bütçede genel isimleri, hesap planında ise asıl gider kalemleri maddenin alt maddesi şeklinde takip edildiği için hesap planında yapılacak değişiklikler örneğin ticaret sicil servisi kırtasiye gideri gibi bir hesap açılması bütçeye yeni bir fasıl maddesi olarak değil kırtasiye giderleri maddesinin alt maddesi şeklinde yansıyaca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250920" y="620280"/>
            <a:ext cx="8137440" cy="1295640"/>
          </a:xfrm>
          <a:prstGeom prst="rect">
            <a:avLst/>
          </a:prstGeom>
          <a:noFill/>
          <a:ln w="0">
            <a:noFill/>
          </a:ln>
        </p:spPr>
        <p:txBody>
          <a:bodyPr anchor="t">
            <a:normAutofit/>
          </a:bodyPr>
          <a:p>
            <a:pPr marL="343080" indent="-343080" algn="just">
              <a:lnSpc>
                <a:spcPct val="80000"/>
              </a:lnSpc>
              <a:spcBef>
                <a:spcPts val="524"/>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Bu açıklamalar ve örneklemeler doğrultusunda oluşturulmuş örnek hesap planı ve bütçe formatı şu şekilde olacaktır. (Gider kalemleri örnek olarak verilmiştir.)</a:t>
            </a:r>
            <a:endParaRPr b="0" lang="en-US" sz="2100" spc="-1" strike="noStrike">
              <a:solidFill>
                <a:srgbClr val="000000"/>
              </a:solidFill>
              <a:latin typeface="Calibri"/>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     </a:t>
            </a:r>
            <a:r>
              <a:rPr b="0" lang="tr-TR" sz="2100" spc="-1" strike="noStrike">
                <a:solidFill>
                  <a:srgbClr val="000000"/>
                </a:solidFill>
                <a:latin typeface="Calibri"/>
                <a:ea typeface="Times New Roman"/>
              </a:rPr>
              <a:t>Bütçe formatı;</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575" name=""/>
          <p:cNvGraphicFramePr/>
          <p:nvPr/>
        </p:nvGraphicFramePr>
        <p:xfrm>
          <a:off x="1116000" y="1989000"/>
          <a:ext cx="6551640" cy="4052880"/>
        </p:xfrm>
        <a:graphic>
          <a:graphicData uri="http://schemas.openxmlformats.org/drawingml/2006/table">
            <a:tbl>
              <a:tblPr/>
              <a:tblGrid>
                <a:gridCol w="682560"/>
                <a:gridCol w="3997440"/>
                <a:gridCol w="936720"/>
                <a:gridCol w="934920"/>
              </a:tblGrid>
              <a:tr h="20160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PERSONEL GİDERLERİ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Servisi Pers. 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Pers. 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Ticaret Sicil Pers. 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Pers. 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1998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Müdürlüğü 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ilgisayar Bakım Onarım ve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3004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Bilgisayar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250560" y="691920"/>
            <a:ext cx="8677080" cy="4330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Hesap planı;</a:t>
            </a:r>
            <a:endParaRPr b="0" lang="en-US" sz="2700" spc="-1" strike="noStrike">
              <a:solidFill>
                <a:srgbClr val="000000"/>
              </a:solidFill>
              <a:latin typeface="Calibri"/>
            </a:endParaRPr>
          </a:p>
        </p:txBody>
      </p:sp>
      <p:graphicFrame>
        <p:nvGraphicFramePr>
          <p:cNvPr id="577" name=""/>
          <p:cNvGraphicFramePr/>
          <p:nvPr/>
        </p:nvGraphicFramePr>
        <p:xfrm>
          <a:off x="1042920" y="1197000"/>
          <a:ext cx="6624720" cy="4421160"/>
        </p:xfrm>
        <a:graphic>
          <a:graphicData uri="http://schemas.openxmlformats.org/drawingml/2006/table">
            <a:tbl>
              <a:tblPr/>
              <a:tblGrid>
                <a:gridCol w="5518080"/>
                <a:gridCol w="1106640"/>
              </a:tblGrid>
              <a:tr h="2318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 - PERSONEL ÜCRET V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01 - Personel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1 -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2 - Ticaret Sicil Servisi Pers.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3 -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4 - Ticaret Sicil Pers.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5 -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872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6 - Ticaret Sicil Pers.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7 -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8 - Ticaret Sicil Pers.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347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3.01 - Dışarı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1 -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2 - Ticaret Sicil Müdürlüğü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3 -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3.01.004 - Ticaret Sicil Müdürlüğü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5 -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6 - Ticaret Sicil Müdürlüğü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7 -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8 - Ticaret Sicil Müdürlüğü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9 - Bilgisayar Bakım Onarım ve Malz.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10 - Ticaret Sicil Müdürlüğü Bilgisayar Malzemesi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etki Belgesi örneği</a:t>
            </a:r>
            <a:endParaRPr b="0" lang="en-US" sz="4000" spc="-1" strike="noStrike">
              <a:solidFill>
                <a:srgbClr val="1f497d"/>
              </a:solidFill>
              <a:latin typeface="Calibri"/>
            </a:endParaRPr>
          </a:p>
        </p:txBody>
      </p:sp>
      <p:sp>
        <p:nvSpPr>
          <p:cNvPr id="539"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MAYIS/HAZIRAN 2013 TARIHINDE YAPILACAK OLAN ODA / BORSA ORGAN SEÇIMLERINDE OY</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ULLANACAK TÜZEL KISI TEMSILCILERI IÇIN GEÇER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AYDIN TICARET SICILI MÜDÜRLÜGÜN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1122 sicil nolu ALFA - BIM BILGISAYAR LIMITED SIRKETI unvanlı şirketimizin tescil edilmiş ana sözleşmesi gereğinc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şirketimizi temsile ve bağlayıcı işlem yapmaya yetkili olan AHMET KALE Mayıs/Haziran 2013 ayında yapılacak TES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ODASI/BORSASI organ seçimlerinde şirketimiz adına oy kullanacakt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Gereğini rica ederim.</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Not: 1) Yetki belgeleri Harca tabii değil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 Dilekçeler; münferit yetkiye sahip olanlar tarafından tek basına, müşterek yetkiye sahip olanların ise tümü tarafından</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imzalan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HMET KALE (T.C No 234234234), yukarıda sicil numarası ve unvanı yazılı şirketi temsile, bağlayıcı işlem yapmay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Sicil Müdürü</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ase - Tarih</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 İmz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dı Soyadı ve İmzaları</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5174 Sayılı Kanuna Tabi Oda / Borsa Seçimlerinde Kullanılacak</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YETKI BELGESI</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FIRAT ÖZER</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9.03.2013</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9" name=""/>
          <p:cNvSpPr txBox="1"/>
          <p:nvPr/>
        </p:nvSpPr>
        <p:spPr>
          <a:xfrm>
            <a:off x="468360" y="1773360"/>
            <a:ext cx="8229600" cy="4813200"/>
          </a:xfrm>
          <a:prstGeom prst="rect">
            <a:avLst/>
          </a:prstGeom>
          <a:noFill/>
          <a:ln w="0">
            <a:noFill/>
          </a:ln>
        </p:spPr>
        <p:txBody>
          <a:bodyPr anchor="t">
            <a:normAutofit/>
          </a:bodyPr>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açıklamalar doğrultusunda ve örnek bütçe formatı ile hesap planı dikkate alınarak işlem yapılması durumunda ticaret sicil yönetmeliğinin uygulanmasında gelirlerin ve giderlerin takibi açısından da bir sıkıntı yaşanmayacağı düşünülmektedir. </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yrıca yine yönetmelik hükmü doğrultusunda 2014 yılı Mart ayından itibaren ticaret sicil gelir ve giderlerinin Birliğimize gönderilmesi gerektiği de açı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258560" y="2492280"/>
            <a:ext cx="6265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ESCİL METİNLERİ VE İLANLARA İLİŞKİN AÇIKLAMALAR</a:t>
            </a:r>
            <a:endParaRPr b="0" lang="en-US" sz="3600" spc="-1" strike="noStrike">
              <a:solidFill>
                <a:srgbClr val="1f497d"/>
              </a:solidFill>
              <a:latin typeface="Calibri"/>
            </a:endParaRPr>
          </a:p>
        </p:txBody>
      </p:sp>
      <p:pic>
        <p:nvPicPr>
          <p:cNvPr id="581" name="4 Resim" descr="tobb_logo.png"/>
          <p:cNvPicPr/>
          <p:nvPr/>
        </p:nvPicPr>
        <p:blipFill>
          <a:blip r:embed="rId1"/>
          <a:stretch/>
        </p:blipFill>
        <p:spPr>
          <a:xfrm>
            <a:off x="0" y="0"/>
            <a:ext cx="9144000" cy="1413000"/>
          </a:xfrm>
          <a:prstGeom prst="rect">
            <a:avLst/>
          </a:prstGeom>
          <a:ln w="0">
            <a:noFill/>
          </a:ln>
        </p:spPr>
      </p:pic>
      <p:sp>
        <p:nvSpPr>
          <p:cNvPr id="58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yazılan unvanda yer alan ibareler kısaltma yapılmadan yazılmalıdır. (Anasözleşmede yer almayan kısaltmalar tescil metnine uygulanmamalıdı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 Halinde" ibaresi unvanın baş kısmına yazılmalıdır. İbare, yeknesaklığın sağlanması amacıyla hiçbir değişiklik yapılmadan yazılmalıdır. </a:t>
            </a:r>
            <a:r>
              <a:rPr b="1" lang="tr-TR" sz="3200" spc="-1" strike="noStrike">
                <a:solidFill>
                  <a:srgbClr val="000000"/>
                </a:solidFill>
                <a:latin typeface="Calibri"/>
              </a:rPr>
              <a:t>(tasfiye halindeki, tasfiyesi süren, tasfiyesi sonuçlanmış vb. ibareler kullanılmamalıdır.) </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da yer almayan ifadeler unvana eklenmemelidir. (merkezi: İstanbul, fesih halinde, iflas halinde, terk vb.) İflas halinde olanlar için “Tasfiye halinde” yazılmalıdır.Yön.177/1 (c)</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ırnak, parantez, köşeli parantez vb. metin içinde ayrı bölümler oluşturan ayraçlara ticaret unvanında yer ver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8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hangi belgelerin (genel kurul tutanağı, yönetim kurulu kararı, hisse devir sözleşmesi, anasözleşme, anasözleşme düzeltme beyannamesi vb.) esas alınarak tescilin gerçekleştirildiği açık, net ve anlaşılır bir şekilde tescil tarihiyle birlikt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konu (kuruluş, ortak değişikliği, şube kapanışı vb.) bölümü eklen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ticaret sicili müdürlüğünün adı, şirketin ticaret sicil numarası, ticaret unvanı, ticari adresi, tescili gerçekleştiren müdürün/müdür yardımcısının bilgileri, mühür ve imza eksiksiz olarak yer a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ve eklerinin okunaklı olmasına azami dikkat edilmeli, okunaksız evraklar kabul ed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van değişikliği ve tür değişikliği işlemlerinde yeni unvan ile birlikte eski unvan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sicili numarası işlemlerinde yeni numara ile birlikte eski numara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Resen yapılan tescillerde, tescil metnine              “…. tarihinde </a:t>
            </a:r>
            <a:r>
              <a:rPr b="1" lang="tr-TR" sz="3000" spc="-1" strike="noStrike">
                <a:solidFill>
                  <a:srgbClr val="000000"/>
                </a:solidFill>
                <a:latin typeface="Calibri"/>
              </a:rPr>
              <a:t>resen</a:t>
            </a:r>
            <a:r>
              <a:rPr b="0" lang="tr-TR" sz="3000" spc="-1" strike="noStrike">
                <a:solidFill>
                  <a:srgbClr val="000000"/>
                </a:solidFill>
                <a:latin typeface="Calibri"/>
              </a:rPr>
              <a:t> tescil edildiği ilan olunur” ibaresi eklenmelidir.</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escil metnine, tescile esas olan belgeler tarih ve numara sırası ile önem sırası dikkate alınarak yazılmalı, anılan belgeler ilana gönderilirken de aynı hassasiyet gösterilmelidir. (karar veya düzeltme beyannamesi anasözleşmeden önce yer almamalı, karar tarihlerinde tarih ve sıra numarası gözetilmeli, hisse devirlerinde devir sözleşmelerinin sıralarına dikkat edilmelidir) </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7"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inde yer alan belgelere ilişkin tarih, sayı ve noter bilgilerinin ilanın ekinde yer alan belgelerle uyumlu olduğunun kontrol edilebilmesi için onaylı belgeler veya onaylı belgenin okunaklı fotokopilerine yer verilmelidir.  Üzerinde tarih, sayı ve noter bilgisi yer almayan belgelere tescil metnin ekinde yer veril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talepnamesi ilan metnine eklen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ye giren bir şirketin tasfiyeye giriş ilanı ile alacaklılara çağrı ilanları aynı metinler olmamalıdır. Tasfiyeye giriş ilanının ekinde tasfiyeye giriş kararı yer almaktadır.  Tasfiyeden dolayı alacaklılara çağrı ilanları için örnek ilan metinlerinde istifade edilebil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İlan yayına gönderilirken tescil metni haricinde bir üst yazıya ihtiyaç bulunmamakta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1"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MADDE 48- </a:t>
            </a:r>
            <a:r>
              <a:rPr b="0" lang="tr-TR" sz="2700" spc="-1" strike="noStrike">
                <a:solidFill>
                  <a:srgbClr val="000000"/>
                </a:solidFill>
                <a:latin typeface="Calibri"/>
              </a:rPr>
              <a:t>18/5/2004 tarihli ve 5174 sayılı Türkiye Odalar ve Borsalar Birliği ile Odalar ve Borsalar Kanununun 83 üncü maddesinin dördüncü, altıncı ve yedinci fıkraları aşağıdaki şekilde değiştirilmişti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alibri"/>
              </a:rPr>
              <a:t>“</a:t>
            </a:r>
            <a:r>
              <a:rPr b="0" lang="tr-TR" sz="2700" spc="-1" strike="noStrike">
                <a:solidFill>
                  <a:srgbClr val="000000"/>
                </a:solidFill>
                <a:latin typeface="Calibri"/>
              </a:rPr>
              <a:t>Oda ve borsalarda </a:t>
            </a:r>
            <a:r>
              <a:rPr b="1" lang="tr-TR" sz="2700" spc="-1" strike="noStrike" u="sng">
                <a:solidFill>
                  <a:srgbClr val="000000"/>
                </a:solidFill>
                <a:uFillTx/>
                <a:latin typeface="Calibri"/>
              </a:rPr>
              <a:t>seçilme </a:t>
            </a:r>
            <a:r>
              <a:rPr b="0" lang="tr-TR" sz="2700" spc="-1" strike="noStrike">
                <a:solidFill>
                  <a:srgbClr val="000000"/>
                </a:solidFill>
                <a:latin typeface="Calibri"/>
              </a:rPr>
              <a:t>hakkının kullanılabilmesi için; ticaret şirketlerinde gerçek kişi temsilcinin şirketin ortağı ve/veya yöneticisi, gerçek kişiler ve ticaret şirketleri dışındaki tüzel kişilere ait ticari işletmelerde ise işletmenin sahibi veya temsilcisi olması ve şirketi ya da işletmeyi temsil</a:t>
            </a:r>
            <a:r>
              <a:rPr b="1" lang="tr-TR" sz="2700" spc="-1" strike="noStrike">
                <a:solidFill>
                  <a:srgbClr val="000000"/>
                </a:solidFill>
                <a:latin typeface="Calibri"/>
              </a:rPr>
              <a:t> </a:t>
            </a:r>
            <a:r>
              <a:rPr b="0" lang="tr-TR" sz="2700" spc="-1" strike="noStrike">
                <a:solidFill>
                  <a:srgbClr val="000000"/>
                </a:solidFill>
                <a:latin typeface="Calibri"/>
              </a:rPr>
              <a:t>ile bağlayıcı işlem yapmaya yetkili bulunması, bu durumun seçimden en az altı ay öncesini kapsaması şarttır. Bu fıkra kapsamında belirtilen şartlar şubeleri temsile yetkili kılınanlar için de aranı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e dayanak olan belge içerikleri dikkatle incelenmeli ve ahlaka mugayir ifadeler tescil edilmeyerek metinden çizilerek çıkarılmalıdı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uluş ilanlarında anasözleşme ile birlikte düzeltme beyannamesinin yer alması durumunda düzeltme beyannamesi bilgilerine tescil metninde de yer ver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birden fazla düzenlenerek bir örneğinin ilgiliye verilmesi halinde (mükerrer yayının önüne geçilmesi amacıyla) metinin üzerine (talep üzerine verilmiştir) şeklinde bir not düşü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icaret Sicili Numarası</a:t>
            </a:r>
            <a:endParaRPr b="0" lang="en-US" sz="4000" spc="-1" strike="noStrike">
              <a:solidFill>
                <a:srgbClr val="1f497d"/>
              </a:solidFill>
              <a:latin typeface="Calibri"/>
            </a:endParaRPr>
          </a:p>
        </p:txBody>
      </p:sp>
      <p:sp>
        <p:nvSpPr>
          <p:cNvPr id="60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başında sıfır sayısına yer verilmemelidir. (0002545 vb.)</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ilk ilandan başlayarak aynı yazılmasına azami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 yazılırken boşluk bırakılmamalı, ayraç olarak tire (-)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Şube Tescili</a:t>
            </a:r>
            <a:endParaRPr b="0" lang="en-US" sz="4000" spc="-1" strike="noStrike">
              <a:solidFill>
                <a:srgbClr val="1f497d"/>
              </a:solidFill>
              <a:latin typeface="Calibri"/>
            </a:endParaRPr>
          </a:p>
        </p:txBody>
      </p:sp>
      <p:sp>
        <p:nvSpPr>
          <p:cNvPr id="60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ekinde yer alan hususların tescile konu olan şube ile ilgili olduğuna dikkat edilmelidir (özellikle banka şubeleri işlemlerinde). Başka şubelerin temsiline ilişkin ibareler çizilmeli, tescil edilmemeli ve ila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a “şube” ibresinin eklenmesine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İlanının Ticaret Sicili Gazetesi Müdürlüğüne Gönderilmesi</a:t>
            </a:r>
            <a:endParaRPr b="0" lang="en-US" sz="3600" spc="-1" strike="noStrike">
              <a:solidFill>
                <a:srgbClr val="1f497d"/>
              </a:solidFill>
              <a:latin typeface="Calibri"/>
            </a:endParaRPr>
          </a:p>
        </p:txBody>
      </p:sp>
      <p:sp>
        <p:nvSpPr>
          <p:cNvPr id="60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 metninin ekinde ücretin </a:t>
            </a:r>
            <a:r>
              <a:rPr b="1" lang="tr-TR" sz="3200" spc="-1" strike="noStrike" u="sng">
                <a:solidFill>
                  <a:srgbClr val="000000"/>
                </a:solidFill>
                <a:uFillTx/>
                <a:latin typeface="Calibri"/>
              </a:rPr>
              <a:t>şirket adına</a:t>
            </a:r>
            <a:r>
              <a:rPr b="1" lang="tr-TR" sz="3200" spc="-1" strike="noStrike">
                <a:solidFill>
                  <a:srgbClr val="000000"/>
                </a:solidFill>
                <a:latin typeface="Calibri"/>
              </a:rPr>
              <a:t> </a:t>
            </a:r>
            <a:r>
              <a:rPr b="0" lang="tr-TR" sz="3200" spc="-1" strike="noStrike">
                <a:solidFill>
                  <a:srgbClr val="000000"/>
                </a:solidFill>
                <a:latin typeface="Calibri"/>
              </a:rPr>
              <a:t>yatırıldığını gösteren dekontun aslının yer alması ve dekontun okunaklı olması gerekmekte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ın ilgili tarafından elden ulaştırılması veya gönderilmesi yolu izlenecek ise ilan, ticaret sicili müdürlüğü tarafından mühürlenmiş kapalı zarfa konu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Şirketlerin Türkiye Şubesi</a:t>
            </a:r>
            <a:endParaRPr b="0" lang="en-US" sz="4000" spc="-1" strike="noStrike">
              <a:solidFill>
                <a:srgbClr val="1f497d"/>
              </a:solidFill>
              <a:latin typeface="Calibri"/>
            </a:endParaRPr>
          </a:p>
        </p:txBody>
      </p:sp>
      <p:sp>
        <p:nvSpPr>
          <p:cNvPr id="61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erkez (Türkiye’deki ilk şb.) ve şube ayrımının yapılabilmesi için tescil metninde “Merkez Şubesi” veya “Tali Şubesi” ibareleri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lacaklılara Çağrı İlanları</a:t>
            </a:r>
            <a:endParaRPr b="0" lang="en-US" sz="4000" spc="-1" strike="noStrike">
              <a:solidFill>
                <a:srgbClr val="1f497d"/>
              </a:solidFill>
              <a:latin typeface="Calibri"/>
            </a:endParaRPr>
          </a:p>
        </p:txBody>
      </p:sp>
      <p:sp>
        <p:nvSpPr>
          <p:cNvPr id="61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ların üç nüsha olarak gönderilmesine gerek olmayıp, tek nüsha olarak gönderilmesi yeter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centeler</a:t>
            </a:r>
            <a:endParaRPr b="0" lang="en-US" sz="4000" spc="-1" strike="noStrike">
              <a:solidFill>
                <a:srgbClr val="1f497d"/>
              </a:solidFill>
              <a:latin typeface="Calibri"/>
            </a:endParaRPr>
          </a:p>
        </p:txBody>
      </p:sp>
      <p:sp>
        <p:nvSpPr>
          <p:cNvPr id="61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centelik işiyle iştigal eden gerçek kişi ticari işletmesinin unvanında acentelik almış olduğu şirketin unvanına yer verilmemesine dikkat edilmelidir. Ör: Ahmet Şahin …. Sigorta Anonim Şirketi Polatlı Şubesi</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ahkeme Kararları</a:t>
            </a:r>
            <a:endParaRPr b="0" lang="en-US" sz="4000" spc="-1" strike="noStrike">
              <a:solidFill>
                <a:srgbClr val="1f497d"/>
              </a:solidFill>
              <a:latin typeface="Calibri"/>
            </a:endParaRPr>
          </a:p>
        </p:txBody>
      </p:sp>
      <p:sp>
        <p:nvSpPr>
          <p:cNvPr id="61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edilen ilanın eki olarak mahkeme kararlarının yayına gönderilmesine gerek olmayıp, hüküm kısmında yer alan husus (kayyım ataması vb.) özetlenerek tescil metnine mahkeme bilgisi de ilgi tutularak eklenmesi yeter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Dilde Yazılı Olan Evraklar</a:t>
            </a:r>
            <a:endParaRPr b="0" lang="en-US" sz="4000" spc="-1" strike="noStrike">
              <a:solidFill>
                <a:srgbClr val="1f497d"/>
              </a:solidFill>
              <a:latin typeface="Calibri"/>
            </a:endParaRPr>
          </a:p>
        </p:txBody>
      </p:sp>
      <p:sp>
        <p:nvSpPr>
          <p:cNvPr id="61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ürkçe haricinde hiçbir evra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evrakta hem Türkçe hem yabancı dilde yazılmış metinler varsa yabancı dilde yazılı olan metin tescili yapan tarafından çizilere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3"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MADDE 50- </a:t>
            </a:r>
            <a:r>
              <a:rPr b="0" lang="tr-TR" sz="2200" spc="-1" strike="noStrike">
                <a:solidFill>
                  <a:srgbClr val="000000"/>
                </a:solidFill>
                <a:latin typeface="Calibri"/>
              </a:rPr>
              <a:t>5174 sayılı Kanuna aşağıdaki geçici madde eklenmişt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GEÇİCİ MADDE 17- Bu Kanunun 84 üncü maddesinin birinci fıkrası gereği 2012 yılının Ekim ayında başlayıp Kasım ayında tamamlanması gereken</a:t>
            </a:r>
            <a:r>
              <a:rPr b="1" lang="tr-TR" sz="2200" spc="-1" strike="noStrike">
                <a:solidFill>
                  <a:srgbClr val="000000"/>
                </a:solidFill>
                <a:latin typeface="Calibri"/>
              </a:rPr>
              <a:t>,</a:t>
            </a:r>
            <a:r>
              <a:rPr b="0" lang="tr-TR" sz="2200" spc="-1" strike="noStrike">
                <a:solidFill>
                  <a:srgbClr val="000000"/>
                </a:solidFill>
                <a:latin typeface="Calibri"/>
              </a:rPr>
              <a:t> ancak Bakanlar Kurulunun 4/6/2012 tarihli ve 2012/3237 sayılı Kararı ile 2013 yılının Şubat</a:t>
            </a:r>
            <a:r>
              <a:rPr b="1" lang="tr-TR" sz="2200" spc="-1" strike="noStrike">
                <a:solidFill>
                  <a:srgbClr val="000000"/>
                </a:solidFill>
                <a:latin typeface="Calibri"/>
              </a:rPr>
              <a:t>-</a:t>
            </a:r>
            <a:r>
              <a:rPr b="0" lang="tr-TR" sz="2200" spc="-1" strike="noStrike">
                <a:solidFill>
                  <a:srgbClr val="000000"/>
                </a:solidFill>
                <a:latin typeface="Calibri"/>
              </a:rPr>
              <a:t>Mart aylarına ertelenen oda ve borsaların organ seçimlerinde oy kullanmak üzere alınan yetki belgeleri, </a:t>
            </a:r>
            <a:r>
              <a:rPr b="1" lang="tr-TR" sz="2200" spc="-1" strike="noStrike">
                <a:solidFill>
                  <a:srgbClr val="000000"/>
                </a:solidFill>
                <a:latin typeface="Calibri"/>
              </a:rPr>
              <a:t>başvuruya dair usule tabi olmaksızın, Ticaret Sicil Müdürlüklerince “yetkinin devam ettiği” ibaresi ile onaylanmış olması şartıyla,</a:t>
            </a:r>
            <a:r>
              <a:rPr b="0" lang="tr-TR" sz="2200" spc="-1" strike="noStrike">
                <a:solidFill>
                  <a:srgbClr val="000000"/>
                </a:solidFill>
                <a:latin typeface="Calibri"/>
              </a:rPr>
              <a:t> Bakanlar Kurulunun 28/1/2013 tarihli ve 2013/4244 sayılı Kararı</a:t>
            </a:r>
            <a:r>
              <a:rPr b="1" lang="tr-TR" sz="2200" spc="-1" strike="noStrike">
                <a:solidFill>
                  <a:srgbClr val="000000"/>
                </a:solidFill>
                <a:latin typeface="Calibri"/>
              </a:rPr>
              <a:t>yla</a:t>
            </a:r>
            <a:r>
              <a:rPr b="0" lang="tr-TR" sz="2200" spc="-1" strike="noStrike">
                <a:solidFill>
                  <a:srgbClr val="000000"/>
                </a:solidFill>
                <a:latin typeface="Calibri"/>
              </a:rPr>
              <a:t> yeniden 2013 yılının Mayıs</a:t>
            </a:r>
            <a:r>
              <a:rPr b="1" lang="tr-TR" sz="2200" spc="-1" strike="noStrike">
                <a:solidFill>
                  <a:srgbClr val="000000"/>
                </a:solidFill>
                <a:latin typeface="Calibri"/>
              </a:rPr>
              <a:t>-</a:t>
            </a:r>
            <a:r>
              <a:rPr b="0" lang="tr-TR" sz="2200" spc="-1" strike="noStrike">
                <a:solidFill>
                  <a:srgbClr val="000000"/>
                </a:solidFill>
                <a:latin typeface="Calibri"/>
              </a:rPr>
              <a:t>Haziran aylarına ertelenen oda ve borsaların organ seçimlerinde kullanılabil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 Kanunun 83 üncü maddesinin altıncı fıkrasında öngörülen en az altı aylık süre şartı 2013 yılının Mayıs-Haziran aylarında yapılacak oda ve borsaların organ seçimlerinde aranmaz.”</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a:t>
            </a:r>
            <a:endParaRPr b="0" lang="en-US" sz="4000" spc="-1" strike="noStrike">
              <a:solidFill>
                <a:srgbClr val="1f497d"/>
              </a:solidFill>
              <a:latin typeface="Calibri"/>
            </a:endParaRPr>
          </a:p>
        </p:txBody>
      </p:sp>
      <p:sp>
        <p:nvSpPr>
          <p:cNvPr id="62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lerde ortağın tüzel kişi tacir olması durumunda kayıtlı olduğu ticaret sicili müdürlüğü ve ticaret sicili numarası bilgilerinin yer verilmesine dikkat edil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Beyannamesi</a:t>
            </a:r>
            <a:endParaRPr b="0" lang="en-US" sz="4000" spc="-1" strike="noStrike">
              <a:solidFill>
                <a:srgbClr val="1f497d"/>
              </a:solidFill>
              <a:latin typeface="Calibri"/>
            </a:endParaRPr>
          </a:p>
        </p:txBody>
      </p:sp>
      <p:sp>
        <p:nvSpPr>
          <p:cNvPr id="62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de amaç-konu maddesi düzeltme beyannamesi ile düzeltilmesi gerekiyorsa bu maddenin bütünsel olarak yenilenmesi talep edilmelidir. Ör: A fıkrasının üçüncü paragrafının ikinci cümlesinin dördüncü kelimesinden sonra gelen “……..” ifadesi çıkarılmış veya “…..” şeklinde değiştirilmişt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flas İşlemleri</a:t>
            </a:r>
            <a:endParaRPr b="0" lang="en-US" sz="4000" spc="-1" strike="noStrike">
              <a:solidFill>
                <a:srgbClr val="1f497d"/>
              </a:solidFill>
              <a:latin typeface="Calibri"/>
            </a:endParaRPr>
          </a:p>
        </p:txBody>
      </p:sp>
      <p:sp>
        <p:nvSpPr>
          <p:cNvPr id="62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alınan kararın özü dikkatli incelenerek tescil metnine en açık şekilde “iflasın kapatıldığı ve ticaret sicili kayıtlarından silindiği”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kapanan şirketin fesih ilanına mahkeme bilgisi ve iflas bilgisi kesinlikle yazılmalıdır. Aksi takdirde kaç şirketin iflas nedeniyle kapatıldığı tespit edilememekt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İlanları</a:t>
            </a:r>
            <a:endParaRPr b="0" lang="en-US" sz="4000" spc="-1" strike="noStrike">
              <a:solidFill>
                <a:srgbClr val="1f497d"/>
              </a:solidFill>
              <a:latin typeface="Calibri"/>
            </a:endParaRPr>
          </a:p>
        </p:txBody>
      </p:sp>
      <p:sp>
        <p:nvSpPr>
          <p:cNvPr id="62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Yanlış Bilgi” “Doğru Bilgi” ayrımı dikkatle yapılarak yazılmalıdır. Anlam kargaşalarına mahal verilme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şletme Adı</a:t>
            </a:r>
            <a:endParaRPr b="0" lang="en-US" sz="4000" spc="-1" strike="noStrike">
              <a:solidFill>
                <a:srgbClr val="1f497d"/>
              </a:solidFill>
              <a:latin typeface="Calibri"/>
            </a:endParaRPr>
          </a:p>
        </p:txBody>
      </p:sp>
      <p:sp>
        <p:nvSpPr>
          <p:cNvPr id="62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şletme adı kullanmak için karar alan ve bunu tescil ettiren şirketlere ilişkin unvan tadili yapılarak işletme adının ticaret unvanının sonu eklenmesi işlemi hatalı bir uygulamadır. Bu işlem yerine işletme adı ticaret unvanından farklı olarak tescil metninde belirtilerek ek olan karar tescil edilme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 Kurulu</a:t>
            </a:r>
            <a:endParaRPr b="0" lang="en-US" sz="4000" spc="-1" strike="noStrike">
              <a:solidFill>
                <a:srgbClr val="1f497d"/>
              </a:solidFill>
              <a:latin typeface="Calibri"/>
            </a:endParaRPr>
          </a:p>
        </p:txBody>
      </p:sp>
      <p:sp>
        <p:nvSpPr>
          <p:cNvPr id="63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Limited şirketlerin karar başlıklarında ve tescil metinlerinde yer alan “ortaklar kurulu” ibaresi, yeni Kanunda böyle bir organ olmadığı için kullanılmamasına dikkat edi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URUYURU İLANLARI</a:t>
            </a:r>
            <a:endParaRPr b="0" lang="en-US" sz="4000" spc="-1" strike="noStrike">
              <a:solidFill>
                <a:srgbClr val="1f497d"/>
              </a:solidFill>
              <a:latin typeface="Calibri"/>
            </a:endParaRPr>
          </a:p>
        </p:txBody>
      </p:sp>
      <p:sp>
        <p:nvSpPr>
          <p:cNvPr id="63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ilan metinlerinin örnekleri  </a:t>
            </a:r>
            <a:r>
              <a:rPr b="1" lang="tr-TR" sz="3200" spc="-1" strike="noStrike">
                <a:solidFill>
                  <a:srgbClr val="000000"/>
                </a:solidFill>
                <a:latin typeface="Calibri"/>
              </a:rPr>
              <a:t>ticaretsicil.gov.tr </a:t>
            </a:r>
            <a:r>
              <a:rPr b="0" lang="tr-TR" sz="3200" spc="-1" strike="noStrike">
                <a:solidFill>
                  <a:srgbClr val="000000"/>
                </a:solidFill>
                <a:latin typeface="Calibri"/>
              </a:rPr>
              <a:t> internet sayfasından erişilebilmektedi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57120" y="714240"/>
            <a:ext cx="8229600" cy="5754960"/>
          </a:xfrm>
          <a:prstGeom prst="rect">
            <a:avLst/>
          </a:prstGeom>
          <a:noFill/>
          <a:ln w="0">
            <a:noFill/>
          </a:ln>
        </p:spPr>
        <p:txBody>
          <a:bodyPr anchor="t">
            <a:norm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635" name="Picture 3" descr="logocembergif"/>
          <p:cNvPicPr/>
          <p:nvPr/>
        </p:nvPicPr>
        <p:blipFill>
          <a:blip r:embed="rId1"/>
          <a:stretch/>
        </p:blipFill>
        <p:spPr>
          <a:xfrm>
            <a:off x="2771640" y="1616040"/>
            <a:ext cx="3529080" cy="3378240"/>
          </a:xfrm>
          <a:prstGeom prst="rect">
            <a:avLst/>
          </a:prstGeom>
          <a:ln w="0">
            <a:noFill/>
          </a:ln>
        </p:spPr>
      </p:pic>
      <p:pic>
        <p:nvPicPr>
          <p:cNvPr id="636" name="Picture 4" descr="logoicgif"/>
          <p:cNvPicPr/>
          <p:nvPr/>
        </p:nvPicPr>
        <p:blipFill>
          <a:blip r:embed="rId2"/>
          <a:stretch/>
        </p:blipFill>
        <p:spPr>
          <a:xfrm>
            <a:off x="3851280" y="2637000"/>
            <a:ext cx="1295280" cy="1220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repeatCount="indefinite">
                                  <p:stCondLst>
                                    <p:cond delay="0"/>
                                  </p:stCondLst>
                                  <p:childTnLst>
                                    <p:animRot by="21600000">
                                      <p:cBhvr>
                                        <p:cTn id="6" dur="20000" fill="hold"/>
                                        <p:tgtEl>
                                          <p:spTgt spid="6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Yetki Belgeleri</a:t>
            </a:r>
            <a:endParaRPr b="0" lang="en-US" sz="4800" spc="-1" strike="noStrike">
              <a:solidFill>
                <a:srgbClr val="1f497d"/>
              </a:solidFill>
              <a:latin typeface="Calibri"/>
            </a:endParaRPr>
          </a:p>
        </p:txBody>
      </p:sp>
      <p:sp>
        <p:nvSpPr>
          <p:cNvPr id="545" name=""/>
          <p:cNvSpPr txBox="1"/>
          <p:nvPr/>
        </p:nvSpPr>
        <p:spPr>
          <a:xfrm>
            <a:off x="324000" y="1773360"/>
            <a:ext cx="8424720" cy="4968720"/>
          </a:xfrm>
          <a:prstGeom prst="rect">
            <a:avLst/>
          </a:prstGeom>
          <a:noFill/>
          <a:ln w="0">
            <a:noFill/>
          </a:ln>
        </p:spPr>
        <p:txBody>
          <a:bodyPr anchor="t">
            <a:normAutofit/>
          </a:bodyPr>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ürk Ticaret Kanununun 180 inci maddesi; “Bir şirket hukuki şeklini değiştirebilir. Yeni türe dönüştürülen şirket eskisinin devamıdır.” hükmünü içermektedir. </a:t>
            </a:r>
            <a:endParaRPr b="0" lang="en-US" sz="2800" spc="-1" strike="noStrike">
              <a:solidFill>
                <a:srgbClr val="000000"/>
              </a:solidFill>
              <a:latin typeface="Calibri"/>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Nevi değiştirilen şirket, limited şirketin devamı niteliğinde olmakla birlikte; şirket yetkilisinin 5174 sayılı Kanunumuz uyarınca seçimlere katılıp oy kullanabilmesi için seçme ve seçilme şartlarını haiz olması yanında temsil ve bağlayıcı işlemler yapmaya yetkili olması gerekmektedir.</a:t>
            </a:r>
            <a:endParaRPr b="0" lang="en-US" sz="2800" spc="-1" strike="noStrike">
              <a:solidFill>
                <a:srgbClr val="000000"/>
              </a:solidFill>
              <a:latin typeface="Calibri"/>
            </a:endParaRPr>
          </a:p>
          <a:p>
            <a:pPr marL="343080" indent="-343080">
              <a:lnSpc>
                <a:spcPct val="12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50560" y="620280"/>
            <a:ext cx="889308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Arial"/>
                <a:ea typeface="Arial"/>
              </a:rPr>
              <a:t>Yetki Belgeleri</a:t>
            </a:r>
            <a:endParaRPr b="0" lang="en-US" sz="4000" spc="-1" strike="noStrike">
              <a:solidFill>
                <a:srgbClr val="1f497d"/>
              </a:solidFill>
              <a:latin typeface="Calibri"/>
            </a:endParaRPr>
          </a:p>
        </p:txBody>
      </p:sp>
      <p:sp>
        <p:nvSpPr>
          <p:cNvPr id="547" name=""/>
          <p:cNvSpPr txBox="1"/>
          <p:nvPr/>
        </p:nvSpPr>
        <p:spPr>
          <a:xfrm>
            <a:off x="250560" y="1915920"/>
            <a:ext cx="8893080" cy="4941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Gümrük ve Ticaret Bakanlığının görüşü üzerine adi ortaklıkların ticaret siciline ve dolayısıyla odalara kaydı mümkün değildir.</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Buna rağmen odalara kayıtlı bulunan adi ortaklıkların ticaret sicillerinde tescilli temsilcileri bulunmadığından, adi ortaklıklara Ticaret Sicili Müdürlüğü tarafından yetki belgesi düzenlenmesi mümkün bulunmamaktadır. </a:t>
            </a:r>
            <a:endParaRPr b="0" lang="en-US" sz="3000" spc="-1" strike="noStrike">
              <a:solidFill>
                <a:srgbClr val="000000"/>
              </a:solidFill>
              <a:latin typeface="Calibri"/>
            </a:endParaRPr>
          </a:p>
          <a:p>
            <a:pPr lvl="1" marL="914400" indent="-457200">
              <a:spcAft>
                <a:spcPts val="601"/>
              </a:spcAft>
              <a:buClr>
                <a:srgbClr val="000000"/>
              </a:buClr>
              <a:buSzPct val="70000"/>
              <a:buFont typeface="Calibri"/>
              <a:buChar char="Ø"/>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1908000" y="692280"/>
            <a:ext cx="5112000" cy="58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
          <p:cNvPicPr/>
          <p:nvPr/>
        </p:nvPicPr>
        <p:blipFill>
          <a:blip r:embed="rId1"/>
          <a:stretch/>
        </p:blipFill>
        <p:spPr>
          <a:xfrm>
            <a:off x="2124000" y="765000"/>
            <a:ext cx="4751640" cy="582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MUHASEBE İŞLEMLERİNE İLİŞKİN AÇIKLAMALAR</a:t>
            </a:r>
            <a:endParaRPr b="0" lang="en-US" sz="3600" spc="-1" strike="noStrike">
              <a:solidFill>
                <a:srgbClr val="1f497d"/>
              </a:solidFill>
              <a:latin typeface="Calibri"/>
            </a:endParaRPr>
          </a:p>
        </p:txBody>
      </p:sp>
      <p:pic>
        <p:nvPicPr>
          <p:cNvPr id="551" name="4 Resim" descr="tobb_logo.png"/>
          <p:cNvPicPr/>
          <p:nvPr/>
        </p:nvPicPr>
        <p:blipFill>
          <a:blip r:embed="rId1"/>
          <a:stretch/>
        </p:blipFill>
        <p:spPr>
          <a:xfrm>
            <a:off x="0" y="0"/>
            <a:ext cx="9144000" cy="1413000"/>
          </a:xfrm>
          <a:prstGeom prst="rect">
            <a:avLst/>
          </a:prstGeom>
          <a:ln w="0">
            <a:noFill/>
          </a:ln>
        </p:spPr>
      </p:pic>
      <p:sp>
        <p:nvSpPr>
          <p:cNvPr id="55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4:58:37Z</dcterms:created>
  <dc:creator>TEPAV R5</dc:creator>
  <dc:description/>
  <dc:language>en-US</dc:language>
  <cp:lastModifiedBy>tobb</cp:lastModifiedBy>
  <cp:lastPrinted>2013-03-30T07:29:52Z</cp:lastPrinted>
  <dcterms:modified xsi:type="dcterms:W3CDTF">2013-04-01T14:56:34Z</dcterms:modified>
  <cp:revision>416</cp:revision>
  <dc:subject/>
  <dc:title>Slayt 1</dc:title>
</cp:coreProperties>
</file>